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1.png" ContentType="image/png"/>
  <Override PartName="/ppt/media/image99.wmf" ContentType="image/x-wmf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48.png" ContentType="image/png"/>
  <Override PartName="/ppt/media/image11.png" ContentType="image/png"/>
  <Override PartName="/ppt/media/image40.png" ContentType="image/png"/>
  <Override PartName="/ppt/media/image32.png" ContentType="image/png"/>
  <Override PartName="/ppt/media/image93.jpeg" ContentType="image/jpeg"/>
  <Override PartName="/ppt/media/image64.png" ContentType="image/png"/>
  <Override PartName="/ppt/media/image65.png" ContentType="image/png"/>
  <Override PartName="/ppt/media/image67.png" ContentType="image/png"/>
  <Override PartName="/ppt/media/image6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3.png" ContentType="image/png"/>
  <Override PartName="/ppt/media/image87.jpeg" ContentType="image/jpeg"/>
  <Override PartName="/ppt/media/image18.png" ContentType="image/png"/>
  <Override PartName="/ppt/media/image83.png" ContentType="image/png"/>
  <Override PartName="/ppt/media/image76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6.wmf" ContentType="image/x-wmf"/>
  <Override PartName="/ppt/media/image79.png" ContentType="image/png"/>
  <Override PartName="/ppt/media/image78.png" ContentType="image/png"/>
  <Override PartName="/ppt/media/image13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1F3-37A5-4BCF-AAA1-E4B66383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EEB-3DAB-4342-8D7D-93ED7CD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F40-F438-4387-8D04-62C2061B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13D-97C2-46E8-896C-667DD1E3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CB6-C81A-41A9-9B64-E61F5423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76C3-F18D-42EC-9E59-57A0AA99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116C-4970-44BA-9340-70B9724C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782-A894-48FE-9F4D-2676C3F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5AD-B158-408C-B0C3-B71C517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02CF-9DDF-4AE3-9294-028AFC5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3E1-5759-4464-8140-2652193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A1E-65CE-4A46-9744-C0C3D935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6E7A-1A8D-4B31-AC0E-124ECF1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4B0-672C-4C42-B717-5C014B8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BBA-8A2C-4D28-BD48-ED44CBA2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788-8E20-41D5-ABCB-33720381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971-08A8-423D-A4B7-7C48CF5B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842C-71DB-4F8F-997E-552D5222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0000-F36A-4F71-A6C2-BC1AB557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6BD3-7B34-409A-9227-F692A13B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66C1-21CB-4ED0-8673-F9F3879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BD67-9707-49B2-A393-8448612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A55-CE1F-44D5-9E31-FD11BC6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EE80-0395-4365-9C43-79E8B21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1619-D5D4-4291-B7FC-EE78C42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DCB4-B9F3-489A-A515-0F5F4C1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22F7-F93D-47C8-81CE-85FF4250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029D-541E-4220-BDEF-A43CEEC7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0B5E-3463-4FB9-A981-5B8B9A1A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4103-5002-4AA1-A207-18644300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5851-4A74-4136-BEDE-CF01FF51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C5A0-07D7-4692-9176-4219296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0616-1417-4553-8C7D-81AF9731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BD6-884E-40D1-9499-12632380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62B5-8291-45F8-A9A6-522B523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BA15-1CA6-44CB-A220-DA1167C3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1107-5DE8-412F-B088-A93557A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87D6-EF34-48A9-A2E0-DC06DEA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36DC-BA47-4019-8F65-B7417FA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96AB-6D90-499E-8956-4BCA5B1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151B-24B8-444F-9A12-2C35A3B0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B273-692E-49D7-9617-D2B15838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5315-F32B-41FD-95B3-29067CF4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01F-8320-41E2-8E0F-72716F5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141-F620-4B11-BFBD-BA7BCD0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C79-4DAC-4AE6-B375-5ABDD23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1F8-EFC4-4EF1-B688-5889CCE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EBD-ED18-4454-8419-014D4DF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92BA-33C0-4302-980D-25D7C5AE0E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FDA-BC94-49FA-89D6-39C79916011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A5E-E52D-4D56-A218-4A3F15D9D0B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3C9-E0CA-4B0C-9420-9A09CCF8DF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0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0.wmf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45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tudyisland.com/webinars/training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5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wmf"/><Relationship Id="rId3" Type="http://schemas.openxmlformats.org/officeDocument/2006/relationships/image" Target="../media/image87.jpe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0.png"/><Relationship Id="rId11" Type="http://schemas.openxmlformats.org/officeDocument/2006/relationships/hyperlink" Target="mailto:Implementation@StudyIsland.com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hyperlink" Target="mailto:Support@StudyIsland.com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upport@studyisland.com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Welcome to the Isla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7760" y="3657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cher Informati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studyisland.c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.419.3191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520" y="91440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of this and MORE can be accessed from the toolbar at the left s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568188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Right Arrow 6"/>
          <p:cNvSpPr/>
          <p:nvPr/>
        </p:nvSpPr>
        <p:spPr>
          <a:xfrm>
            <a:off x="1371600" y="182880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678040" y="1647720"/>
            <a:ext cx="93348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20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Study Island Program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447560"/>
            <a:ext cx="5333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grade level from the left sid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su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top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1076400" cy="1133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3352680" y="3200400"/>
            <a:ext cx="1447920" cy="1550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5334120" cy="1603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2" name="Picture 4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911320" cy="1752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53" name="Right Arrow 10"/>
          <p:cNvSpPr/>
          <p:nvPr/>
        </p:nvSpPr>
        <p:spPr>
          <a:xfrm>
            <a:off x="3886200" y="1828800"/>
            <a:ext cx="20574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ust like the Student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1752480" y="2514600"/>
            <a:ext cx="7621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3352680" y="3809880"/>
            <a:ext cx="9907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28600" y="594360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5"/>
          <a:stretch/>
        </p:blipFill>
        <p:spPr>
          <a:xfrm>
            <a:off x="7543800" y="5035680"/>
            <a:ext cx="144792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Study Island Program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160" y="137160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multiple Session Typ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905120" y="2438280"/>
            <a:ext cx="1371600" cy="3682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s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11480" cy="2971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2" name="TextBox 13"/>
          <p:cNvSpPr/>
          <p:nvPr/>
        </p:nvSpPr>
        <p:spPr>
          <a:xfrm>
            <a:off x="6095880" y="2362320"/>
            <a:ext cx="137160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Gam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00400" cy="3012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4" name="TextBox 12"/>
          <p:cNvSpPr/>
          <p:nvPr/>
        </p:nvSpPr>
        <p:spPr>
          <a:xfrm>
            <a:off x="1295280" y="2362320"/>
            <a:ext cx="289584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assroom Respon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3364200" cy="3128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66" name="Picture 15" descr=""/>
          <p:cNvPicPr/>
          <p:nvPr/>
        </p:nvPicPr>
        <p:blipFill>
          <a:blip r:embed="rId4"/>
          <a:stretch/>
        </p:blipFill>
        <p:spPr>
          <a:xfrm>
            <a:off x="3733920" y="5486400"/>
            <a:ext cx="1162080" cy="1133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7" name="TextBox 16"/>
          <p:cNvSpPr/>
          <p:nvPr/>
        </p:nvSpPr>
        <p:spPr>
          <a:xfrm>
            <a:off x="5791320" y="2362320"/>
            <a:ext cx="213336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rintable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5"/>
          <a:stretch/>
        </p:blipFill>
        <p:spPr>
          <a:xfrm>
            <a:off x="5334120" y="3048120"/>
            <a:ext cx="3047760" cy="33573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69" name="Picture 14" descr=""/>
          <p:cNvPicPr/>
          <p:nvPr/>
        </p:nvPicPr>
        <p:blipFill>
          <a:blip r:embed="rId6"/>
          <a:stretch/>
        </p:blipFill>
        <p:spPr>
          <a:xfrm>
            <a:off x="5486400" y="1447920"/>
            <a:ext cx="3305160" cy="6350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50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Helpful Hi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1676160"/>
            <a:ext cx="876312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 Resources material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available in select topic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371600" y="4014720"/>
            <a:ext cx="3886200" cy="260352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16"/>
          <p:cNvSpPr/>
          <p:nvPr/>
        </p:nvSpPr>
        <p:spPr>
          <a:xfrm>
            <a:off x="5943600" y="4191120"/>
            <a:ext cx="2057400" cy="1828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scriptions, Videos, Lesson Plans, and Digital Resourc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7"/>
          <p:cNvCxnSpPr/>
          <p:nvPr/>
        </p:nvCxnSpPr>
        <p:spPr>
          <a:xfrm flipH="1" flipV="1">
            <a:off x="4038120" y="4266720"/>
            <a:ext cx="1905840" cy="153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Explosion 1 9"/>
          <p:cNvSpPr/>
          <p:nvPr/>
        </p:nvSpPr>
        <p:spPr>
          <a:xfrm rot="20509200">
            <a:off x="428400" y="1731960"/>
            <a:ext cx="1419120" cy="5335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54100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ailable to teacher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Teacher Resources.png"/>
          <p:cNvPicPr/>
          <p:nvPr/>
        </p:nvPicPr>
        <p:blipFill>
          <a:blip r:embed="rId2"/>
          <a:stretch/>
        </p:blipFill>
        <p:spPr>
          <a:xfrm>
            <a:off x="1447920" y="2133720"/>
            <a:ext cx="5581440" cy="1619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78" name="Oval 12"/>
          <p:cNvSpPr/>
          <p:nvPr/>
        </p:nvSpPr>
        <p:spPr>
          <a:xfrm>
            <a:off x="5486400" y="205740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Helpful Hi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on the topic name OR check multiple topics and click “Start Studying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ry topic has a lesson and a Passing Go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094440" cy="18316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82" name="Oval 5"/>
          <p:cNvSpPr/>
          <p:nvPr/>
        </p:nvSpPr>
        <p:spPr>
          <a:xfrm>
            <a:off x="5540400" y="4572000"/>
            <a:ext cx="84924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>
            <a:off x="7705800" y="5230800"/>
            <a:ext cx="1285920" cy="1550880"/>
          </a:xfrm>
          <a:prstGeom prst="rect">
            <a:avLst/>
          </a:prstGeom>
          <a:ln w="0">
            <a:noFill/>
          </a:ln>
        </p:spPr>
      </p:pic>
      <p:sp>
        <p:nvSpPr>
          <p:cNvPr id="284" name="Up Arrow 7"/>
          <p:cNvSpPr/>
          <p:nvPr/>
        </p:nvSpPr>
        <p:spPr>
          <a:xfrm rot="19065600">
            <a:off x="4082760" y="24253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2666880" y="5105520"/>
            <a:ext cx="609840" cy="15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31667 0.38889 E">
                                      <p:cBhvr>
                                        <p:cTn id="521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38889 L -0.31667 0.46667 E">
                                      <p:cBhvr>
                                        <p:cTn id="52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46667 L 0.23333 0.26667 E">
                                      <p:cBhvr>
                                        <p:cTn id="52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s a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sing Goal tells you the minimum required to master the topi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mbers can vary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7705800" y="5230800"/>
            <a:ext cx="1285920" cy="155088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0"/>
          <p:cNvGrpSpPr/>
          <p:nvPr/>
        </p:nvGrpSpPr>
        <p:grpSpPr>
          <a:xfrm>
            <a:off x="1066680" y="4038480"/>
            <a:ext cx="6086520" cy="1914480"/>
            <a:chOff x="1066680" y="4038480"/>
            <a:chExt cx="6086520" cy="1914480"/>
          </a:xfrm>
        </p:grpSpPr>
        <p:pic>
          <p:nvPicPr>
            <p:cNvPr id="290" name="Picture 2" descr=""/>
            <p:cNvPicPr/>
            <p:nvPr/>
          </p:nvPicPr>
          <p:blipFill>
            <a:blip r:embed="rId2"/>
            <a:stretch/>
          </p:blipFill>
          <p:spPr>
            <a:xfrm>
              <a:off x="1066680" y="4038480"/>
              <a:ext cx="6086520" cy="182916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sp>
          <p:nvSpPr>
            <p:cNvPr id="291" name="Oval 9"/>
            <p:cNvSpPr/>
            <p:nvPr/>
          </p:nvSpPr>
          <p:spPr>
            <a:xfrm>
              <a:off x="5589720" y="4657680"/>
              <a:ext cx="914400" cy="129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4617b"/>
                </a:solidFill>
                <a:uFillTx/>
                <a:latin typeface="Calibri"/>
              </a:rPr>
              <a:t>What are these symbols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Picture 14" descr="icons.png"/>
          <p:cNvPicPr/>
          <p:nvPr/>
        </p:nvPicPr>
        <p:blipFill>
          <a:blip r:embed="rId1"/>
          <a:stretch/>
        </p:blipFill>
        <p:spPr>
          <a:xfrm>
            <a:off x="762120" y="2971800"/>
            <a:ext cx="7819920" cy="1847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grpSp>
        <p:nvGrpSpPr>
          <p:cNvPr id="294" name="Group 11"/>
          <p:cNvGrpSpPr/>
          <p:nvPr/>
        </p:nvGrpSpPr>
        <p:grpSpPr>
          <a:xfrm>
            <a:off x="380880" y="1600200"/>
            <a:ext cx="3276720" cy="1905120"/>
            <a:chOff x="380880" y="1600200"/>
            <a:chExt cx="3276720" cy="1905120"/>
          </a:xfrm>
        </p:grpSpPr>
        <p:sp>
          <p:nvSpPr>
            <p:cNvPr id="295" name="Oval 19"/>
            <p:cNvSpPr/>
            <p:nvPr/>
          </p:nvSpPr>
          <p:spPr>
            <a:xfrm>
              <a:off x="380880" y="1600200"/>
              <a:ext cx="3276720" cy="121932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Blue Ribbon will appear next to each mastered top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Straight Arrow Connector 21"/>
            <p:cNvCxnSpPr>
              <a:stCxn id="295" idx="4"/>
            </p:cNvCxnSpPr>
            <p:nvPr/>
          </p:nvCxnSpPr>
          <p:spPr>
            <a:xfrm flipH="1">
              <a:off x="1752120" y="2819160"/>
              <a:ext cx="26712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97" name="Group 12"/>
          <p:cNvGrpSpPr/>
          <p:nvPr/>
        </p:nvGrpSpPr>
        <p:grpSpPr>
          <a:xfrm>
            <a:off x="5105160" y="1371600"/>
            <a:ext cx="3810240" cy="2209680"/>
            <a:chOff x="5105160" y="1371600"/>
            <a:chExt cx="3810240" cy="2209680"/>
          </a:xfrm>
        </p:grpSpPr>
        <p:sp>
          <p:nvSpPr>
            <p:cNvPr id="298" name="Oval 22"/>
            <p:cNvSpPr/>
            <p:nvPr/>
          </p:nvSpPr>
          <p:spPr>
            <a:xfrm>
              <a:off x="5334120" y="1371600"/>
              <a:ext cx="3581280" cy="167652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uilding Block questions are designed to help your student build on their previous knowled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9" name="Straight Arrow Connector 23"/>
            <p:cNvCxnSpPr>
              <a:stCxn id="298" idx="3"/>
            </p:cNvCxnSpPr>
            <p:nvPr/>
          </p:nvCxnSpPr>
          <p:spPr>
            <a:xfrm flipH="1">
              <a:off x="5105160" y="2801520"/>
              <a:ext cx="753120" cy="780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00" name="Group 14"/>
          <p:cNvGrpSpPr/>
          <p:nvPr/>
        </p:nvGrpSpPr>
        <p:grpSpPr>
          <a:xfrm>
            <a:off x="609480" y="4190400"/>
            <a:ext cx="3353040" cy="2134080"/>
            <a:chOff x="609480" y="4190400"/>
            <a:chExt cx="3353040" cy="2134080"/>
          </a:xfrm>
        </p:grpSpPr>
        <p:sp>
          <p:nvSpPr>
            <p:cNvPr id="301" name="Oval 25"/>
            <p:cNvSpPr/>
            <p:nvPr/>
          </p:nvSpPr>
          <p:spPr>
            <a:xfrm>
              <a:off x="609480" y="4876920"/>
              <a:ext cx="3353040" cy="144756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Red Triangle means your student is struggling with the topi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Straight Arrow Connector 26"/>
            <p:cNvCxnSpPr>
              <a:stCxn id="301" idx="0"/>
            </p:cNvCxnSpPr>
            <p:nvPr/>
          </p:nvCxnSpPr>
          <p:spPr>
            <a:xfrm flipH="1" flipV="1">
              <a:off x="1904400" y="4190400"/>
              <a:ext cx="38160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03" name="Group 13"/>
          <p:cNvGrpSpPr/>
          <p:nvPr/>
        </p:nvGrpSpPr>
        <p:grpSpPr>
          <a:xfrm>
            <a:off x="5028840" y="4190760"/>
            <a:ext cx="3429360" cy="2057760"/>
            <a:chOff x="5028840" y="4190760"/>
            <a:chExt cx="3429360" cy="2057760"/>
          </a:xfrm>
        </p:grpSpPr>
        <p:sp>
          <p:nvSpPr>
            <p:cNvPr id="304" name="Oval 30"/>
            <p:cNvSpPr/>
            <p:nvPr/>
          </p:nvSpPr>
          <p:spPr>
            <a:xfrm>
              <a:off x="5257800" y="4648320"/>
              <a:ext cx="3200400" cy="160020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White Ribbon will appear when a Building Block Topic is master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5" name="Straight Arrow Connector 31"/>
            <p:cNvCxnSpPr>
              <a:stCxn id="304" idx="1"/>
            </p:cNvCxnSpPr>
            <p:nvPr/>
          </p:nvCxnSpPr>
          <p:spPr>
            <a:xfrm flipH="1" flipV="1">
              <a:off x="5028840" y="4190760"/>
              <a:ext cx="697680" cy="69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idn’t meet the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finding the correct answer, your student can view an explanation or go to the next questio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leting a set of questions, your student may be able to re-try missed ques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through missed questions helps students understand the material and increases reten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8077320" y="576576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2571480" cy="638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6781680" y="4267080"/>
            <a:ext cx="1819440" cy="371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idn’t meet the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934640"/>
            <a:ext cx="84582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r student is still struggling with a topic, try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Study Island les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missed questions by clicking on the score in the Your Results colum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upplemental re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3062520" cy="363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14" name="Picture 14" descr=""/>
          <p:cNvPicPr/>
          <p:nvPr/>
        </p:nvPicPr>
        <p:blipFill>
          <a:blip r:embed="rId2"/>
          <a:stretch/>
        </p:blipFill>
        <p:spPr>
          <a:xfrm>
            <a:off x="3657600" y="3352680"/>
            <a:ext cx="4978440" cy="1387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15" name="Oval 12"/>
          <p:cNvSpPr/>
          <p:nvPr/>
        </p:nvSpPr>
        <p:spPr>
          <a:xfrm>
            <a:off x="7010280" y="40194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2"/>
          <p:cNvGrpSpPr/>
          <p:nvPr/>
        </p:nvGrpSpPr>
        <p:grpSpPr>
          <a:xfrm>
            <a:off x="1143000" y="4267080"/>
            <a:ext cx="5268960" cy="1401840"/>
            <a:chOff x="1143000" y="4267080"/>
            <a:chExt cx="5268960" cy="1401840"/>
          </a:xfrm>
        </p:grpSpPr>
        <p:pic>
          <p:nvPicPr>
            <p:cNvPr id="317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4267080"/>
              <a:ext cx="5261760" cy="140184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sp>
          <p:nvSpPr>
            <p:cNvPr id="318" name="Oval 15"/>
            <p:cNvSpPr/>
            <p:nvPr/>
          </p:nvSpPr>
          <p:spPr>
            <a:xfrm>
              <a:off x="5731200" y="5035320"/>
              <a:ext cx="680760" cy="185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9" name="Straight Arrow Connector 16"/>
          <p:cNvCxnSpPr>
            <a:stCxn id="315" idx="3"/>
            <a:endCxn id="318" idx="7"/>
          </p:cNvCxnSpPr>
          <p:nvPr/>
        </p:nvCxnSpPr>
        <p:spPr>
          <a:xfrm flipH="1">
            <a:off x="6311520" y="4214520"/>
            <a:ext cx="799200" cy="84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pull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up your students into “classes” so you can read reports more easily and create a class p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Class Manag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a tit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Nex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4267080" y="2895480"/>
            <a:ext cx="1209960" cy="1266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3" name="Oval 4"/>
          <p:cNvSpPr/>
          <p:nvPr/>
        </p:nvSpPr>
        <p:spPr>
          <a:xfrm>
            <a:off x="4202280" y="3287880"/>
            <a:ext cx="1272960" cy="27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5533920" cy="714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5" name="TextBox 11"/>
          <p:cNvSpPr/>
          <p:nvPr/>
        </p:nvSpPr>
        <p:spPr>
          <a:xfrm>
            <a:off x="4114800" y="52354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Witty’s Math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Up Arrow 13"/>
          <p:cNvSpPr/>
          <p:nvPr/>
        </p:nvSpPr>
        <p:spPr>
          <a:xfrm rot="19065600">
            <a:off x="5226120" y="34160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25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with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7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833 0.28889 E">
                                      <p:cBhvr>
                                        <p:cTn id="704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8" dur="25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at is Study Island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304920" y="18288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Island is a Web-based educational resource for instruction, assessment and reporting built from YOUR state’s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studyislandsite.jpg"/>
          <p:cNvPicPr/>
          <p:nvPr/>
        </p:nvPicPr>
        <p:blipFill>
          <a:blip r:embed="rId1"/>
          <a:stretch/>
        </p:blipFill>
        <p:spPr>
          <a:xfrm>
            <a:off x="4267080" y="2819520"/>
            <a:ext cx="4419720" cy="32320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00" name="Picture 8" descr="frontpage-ezroom-5000.jpg"/>
          <p:cNvPicPr/>
          <p:nvPr/>
        </p:nvPicPr>
        <p:blipFill>
          <a:blip r:embed="rId2"/>
          <a:stretch/>
        </p:blipFill>
        <p:spPr>
          <a:xfrm>
            <a:off x="457200" y="3809880"/>
            <a:ext cx="3352680" cy="12621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09960" cy="1266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9" name=""/>
          <p:cNvSpPr txBox="1"/>
          <p:nvPr/>
        </p:nvSpPr>
        <p:spPr>
          <a:xfrm>
            <a:off x="457200" y="1325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 class preferences (if allowed by Admin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 games, remedial topics, timer visibility, scratchpad and highlighter availabi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select stude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red arrow to see students in the desired gra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your stud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7631280" y="1077840"/>
            <a:ext cx="1272960" cy="27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"/>
          <p:cNvPicPr/>
          <p:nvPr/>
        </p:nvPicPr>
        <p:blipFill>
          <a:blip r:embed="rId2"/>
          <a:stretch/>
        </p:blipFill>
        <p:spPr>
          <a:xfrm>
            <a:off x="1219320" y="5943600"/>
            <a:ext cx="2114280" cy="314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32" name="Picture 10" descr=""/>
          <p:cNvPicPr/>
          <p:nvPr/>
        </p:nvPicPr>
        <p:blipFill>
          <a:blip r:embed="rId3"/>
          <a:srcRect l="27888" t="54118" r="14902" b="23468"/>
          <a:stretch/>
        </p:blipFill>
        <p:spPr>
          <a:xfrm>
            <a:off x="4267080" y="5029200"/>
            <a:ext cx="4616640" cy="1655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33" name="Picture 11" descr=""/>
          <p:cNvPicPr/>
          <p:nvPr/>
        </p:nvPicPr>
        <p:blipFill>
          <a:blip r:embed="rId4"/>
          <a:stretch/>
        </p:blipFill>
        <p:spPr>
          <a:xfrm>
            <a:off x="1905120" y="2647800"/>
            <a:ext cx="5648040" cy="15433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34" name="Explosion 1 11"/>
          <p:cNvSpPr/>
          <p:nvPr/>
        </p:nvSpPr>
        <p:spPr>
          <a:xfrm>
            <a:off x="7162920" y="2286000"/>
            <a:ext cx="167616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14"/>
          <p:cNvCxnSpPr>
            <a:stCxn id="334" idx="1"/>
          </p:cNvCxnSpPr>
          <p:nvPr/>
        </p:nvCxnSpPr>
        <p:spPr>
          <a:xfrm flipH="1">
            <a:off x="4419360" y="2529000"/>
            <a:ext cx="2743920" cy="13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Up Arrow 18"/>
          <p:cNvSpPr/>
          <p:nvPr/>
        </p:nvSpPr>
        <p:spPr>
          <a:xfrm rot="19065600">
            <a:off x="3549240" y="42541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11 L 0.0908 0.19796 E">
                                      <p:cBhvr>
                                        <p:cTn id="76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19797 L 0.0908 0.32007 E">
                                      <p:cBhvr>
                                        <p:cTn id="77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32007 L -0.22587 0.25347 E">
                                      <p:cBhvr>
                                        <p:cTn id="78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 return to Class Manager you can see a list of your classes. </a:t>
            </a:r>
            <a:br>
              <a:rPr sz="26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Edit      , Create Class Page and Assignments       , schedule Parent Notifications        , or Remove Class      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enter Live View to monitor real-time student activ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also see if a class page is “Active”      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” means students can see the class p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must post an assignment, note, schedule, or link before you can activate a class p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2489040" y="3400560"/>
            <a:ext cx="304920" cy="3427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7843680" y="3429000"/>
            <a:ext cx="309600" cy="326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1" name="Picture 5" descr=""/>
          <p:cNvPicPr/>
          <p:nvPr/>
        </p:nvPicPr>
        <p:blipFill>
          <a:blip r:embed="rId3"/>
          <a:stretch/>
        </p:blipFill>
        <p:spPr>
          <a:xfrm>
            <a:off x="7772400" y="3809880"/>
            <a:ext cx="304920" cy="304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2" name="Picture 6" descr=""/>
          <p:cNvPicPr/>
          <p:nvPr/>
        </p:nvPicPr>
        <p:blipFill>
          <a:blip r:embed="rId4"/>
          <a:stretch/>
        </p:blipFill>
        <p:spPr>
          <a:xfrm>
            <a:off x="6400800" y="5119560"/>
            <a:ext cx="380880" cy="331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3" name="Picture 10" descr=""/>
          <p:cNvPicPr/>
          <p:nvPr/>
        </p:nvPicPr>
        <p:blipFill>
          <a:blip r:embed="rId5"/>
          <a:stretch/>
        </p:blipFill>
        <p:spPr>
          <a:xfrm>
            <a:off x="2590920" y="1981080"/>
            <a:ext cx="6161040" cy="1371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44" name="Explosion 1 12"/>
          <p:cNvSpPr/>
          <p:nvPr/>
        </p:nvSpPr>
        <p:spPr>
          <a:xfrm>
            <a:off x="7086600" y="762120"/>
            <a:ext cx="16002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Straight Arrow Connector 14"/>
          <p:cNvCxnSpPr/>
          <p:nvPr/>
        </p:nvCxnSpPr>
        <p:spPr>
          <a:xfrm flipH="1">
            <a:off x="7009920" y="1447560"/>
            <a:ext cx="4579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Straight Arrow Connector 16"/>
          <p:cNvCxnSpPr/>
          <p:nvPr/>
        </p:nvCxnSpPr>
        <p:spPr>
          <a:xfrm>
            <a:off x="8077320" y="1576440"/>
            <a:ext cx="305280" cy="10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7" name="Oval 13"/>
          <p:cNvSpPr/>
          <p:nvPr/>
        </p:nvSpPr>
        <p:spPr>
          <a:xfrm>
            <a:off x="6553080" y="1981080"/>
            <a:ext cx="8384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5" descr=""/>
          <p:cNvPicPr/>
          <p:nvPr/>
        </p:nvPicPr>
        <p:blipFill>
          <a:blip r:embed="rId6"/>
          <a:stretch/>
        </p:blipFill>
        <p:spPr>
          <a:xfrm>
            <a:off x="4886280" y="3733920"/>
            <a:ext cx="371520" cy="371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 Class P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n Assignment, Note, Schedule, or Lin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309600" cy="327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343400" cy="3022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53" name="Oval 9"/>
          <p:cNvSpPr/>
          <p:nvPr/>
        </p:nvSpPr>
        <p:spPr>
          <a:xfrm>
            <a:off x="5281560" y="472428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3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0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600" y="13712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work on anything in Study Island, or you can post a specific assig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                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n assignment 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actice and Instruction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Study Island topic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ing Assignmen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writing promp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ustom Assessment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Study Island ques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4495680" y="2195640"/>
            <a:ext cx="4572000" cy="2757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59" name="Explosion 1 8"/>
          <p:cNvSpPr/>
          <p:nvPr/>
        </p:nvSpPr>
        <p:spPr>
          <a:xfrm>
            <a:off x="152280" y="459252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1676520" y="2771640"/>
            <a:ext cx="1617480" cy="276480"/>
          </a:xfrm>
          <a:prstGeom prst="rect">
            <a:avLst/>
          </a:prstGeom>
          <a:ln w="0">
            <a:noFill/>
          </a:ln>
        </p:spPr>
      </p:pic>
      <p:sp>
        <p:nvSpPr>
          <p:cNvPr id="361" name="Explosion 1 21"/>
          <p:cNvSpPr/>
          <p:nvPr/>
        </p:nvSpPr>
        <p:spPr>
          <a:xfrm>
            <a:off x="152280" y="535464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32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36440" indent="-136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 Practice and Instruction assign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55600" indent="-11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                                                  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55600" indent="-11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Picture 11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267080" cy="447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2"/>
          <a:stretch/>
        </p:blipFill>
        <p:spPr>
          <a:xfrm>
            <a:off x="4191120" y="2266920"/>
            <a:ext cx="4811760" cy="3371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4309920" y="3189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Value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343400" y="36576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 chapter 4 before compl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5797440" y="263844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tent Placeholder 2"/>
          <p:cNvSpPr/>
          <p:nvPr/>
        </p:nvSpPr>
        <p:spPr>
          <a:xfrm>
            <a:off x="0" y="2286000"/>
            <a:ext cx="42670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du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dditional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if you want to override school p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calculator preferenc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4" descr=""/>
          <p:cNvPicPr/>
          <p:nvPr/>
        </p:nvPicPr>
        <p:blipFill>
          <a:blip r:embed="rId3"/>
          <a:stretch/>
        </p:blipFill>
        <p:spPr>
          <a:xfrm>
            <a:off x="304920" y="5716440"/>
            <a:ext cx="4419360" cy="989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371" name="Straight Arrow Connector 15"/>
          <p:cNvCxnSpPr/>
          <p:nvPr/>
        </p:nvCxnSpPr>
        <p:spPr>
          <a:xfrm flipH="1">
            <a:off x="3927240" y="4571640"/>
            <a:ext cx="457920" cy="1220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2" name="Oval 17"/>
          <p:cNvSpPr/>
          <p:nvPr/>
        </p:nvSpPr>
        <p:spPr>
          <a:xfrm>
            <a:off x="6377040" y="491796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(cont.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red arrow          next to a cla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“Select All” or select specific stude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228600" cy="374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76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3"/>
          <a:srcRect l="13460" t="19618" r="33174" b="60599"/>
          <a:stretch/>
        </p:blipFill>
        <p:spPr>
          <a:xfrm>
            <a:off x="1600200" y="3733920"/>
            <a:ext cx="5613480" cy="1904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78" name="Up Arrow 6"/>
          <p:cNvSpPr/>
          <p:nvPr/>
        </p:nvSpPr>
        <p:spPr>
          <a:xfrm rot="19065600">
            <a:off x="2101320" y="4559400"/>
            <a:ext cx="384480" cy="509400"/>
          </a:xfrm>
          <a:prstGeom prst="up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0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9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162 L 0.00712 0.04094 E">
                                      <p:cBhvr>
                                        <p:cTn id="107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0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0.04256 L 0.00746 0.08696 E">
                                      <p:cBhvr>
                                        <p:cTn id="1083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(cont.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which topics you want to assig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 a Grad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 a Subject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“Get Topic List”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96000" cy="1143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871800" cy="21333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384" name="Straight Arrow Connector 11"/>
          <p:cNvCxnSpPr/>
          <p:nvPr/>
        </p:nvCxnSpPr>
        <p:spPr>
          <a:xfrm flipH="1">
            <a:off x="4266360" y="3808800"/>
            <a:ext cx="350604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5" name="Oval 7"/>
          <p:cNvSpPr/>
          <p:nvPr/>
        </p:nvSpPr>
        <p:spPr>
          <a:xfrm>
            <a:off x="4038480" y="3352680"/>
            <a:ext cx="1371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38480" y="3621240"/>
            <a:ext cx="1371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0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6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190476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lp you decide which topics to assign, you ca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Standard Map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e the Passing Go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Less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ew Question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Standard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eady for students to see the assignment- “Activate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can create assignments and leave them deactivated until you want students to work on them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“Save Assignment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72160" cy="21337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886200" y="2438280"/>
            <a:ext cx="181080" cy="190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3505320" y="2743200"/>
            <a:ext cx="799920" cy="266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2" name="Picture 5" descr=""/>
          <p:cNvPicPr/>
          <p:nvPr/>
        </p:nvPicPr>
        <p:blipFill>
          <a:blip r:embed="rId4"/>
          <a:stretch/>
        </p:blipFill>
        <p:spPr>
          <a:xfrm>
            <a:off x="3048120" y="3187800"/>
            <a:ext cx="228600" cy="2412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3352680" y="3586320"/>
            <a:ext cx="193680" cy="223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4" name="Picture 7" descr=""/>
          <p:cNvPicPr/>
          <p:nvPr/>
        </p:nvPicPr>
        <p:blipFill>
          <a:blip r:embed="rId6"/>
          <a:stretch/>
        </p:blipFill>
        <p:spPr>
          <a:xfrm>
            <a:off x="3657600" y="3962520"/>
            <a:ext cx="237960" cy="2379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5" name="Picture 10" descr=""/>
          <p:cNvPicPr/>
          <p:nvPr/>
        </p:nvPicPr>
        <p:blipFill>
          <a:blip r:embed="rId7"/>
          <a:stretch/>
        </p:blipFill>
        <p:spPr>
          <a:xfrm>
            <a:off x="5867280" y="5562720"/>
            <a:ext cx="2381400" cy="819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96" name="Oval 13"/>
          <p:cNvSpPr/>
          <p:nvPr/>
        </p:nvSpPr>
        <p:spPr>
          <a:xfrm>
            <a:off x="5867280" y="601992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Up Arrow 12"/>
          <p:cNvSpPr/>
          <p:nvPr/>
        </p:nvSpPr>
        <p:spPr>
          <a:xfrm rot="19065600">
            <a:off x="7589520" y="1814040"/>
            <a:ext cx="382680" cy="51300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1795E-006 L 0.1158 0.25347 E">
                                      <p:cBhvr>
                                        <p:cTn id="115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3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8 0.25185 L 0.03246 0.32956 E">
                                      <p:cBhvr>
                                        <p:cTn id="1174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32008 L 0.08125 0.38668 E">
                                      <p:cBhvr>
                                        <p:cTn id="118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9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4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0.38668 L 0.09427 0.38668 E">
                                      <p:cBhvr>
                                        <p:cTn id="120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4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38668 L 0.1158 0.38668 E">
                                      <p:cBhvr>
                                        <p:cTn id="121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9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you                      you can see a list of assignments. 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ate      /Deactivate       Assignm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student resu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t the assig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assig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2152800" y="2057400"/>
            <a:ext cx="1693800" cy="266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6658200" cy="1981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2" name="Picture 6" descr=""/>
          <p:cNvPicPr/>
          <p:nvPr/>
        </p:nvPicPr>
        <p:blipFill>
          <a:blip r:embed="rId3"/>
          <a:stretch/>
        </p:blipFill>
        <p:spPr>
          <a:xfrm>
            <a:off x="4114800" y="4933800"/>
            <a:ext cx="318960" cy="3016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3" name="Picture 7" descr=""/>
          <p:cNvPicPr/>
          <p:nvPr/>
        </p:nvPicPr>
        <p:blipFill>
          <a:blip r:embed="rId4"/>
          <a:stretch/>
        </p:blipFill>
        <p:spPr>
          <a:xfrm>
            <a:off x="2233440" y="4876920"/>
            <a:ext cx="304920" cy="304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4" name="Picture 8" descr=""/>
          <p:cNvPicPr/>
          <p:nvPr/>
        </p:nvPicPr>
        <p:blipFill>
          <a:blip r:embed="rId5"/>
          <a:stretch/>
        </p:blipFill>
        <p:spPr>
          <a:xfrm>
            <a:off x="3962520" y="5391000"/>
            <a:ext cx="304560" cy="276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5" name="Picture 9" descr=""/>
          <p:cNvPicPr/>
          <p:nvPr/>
        </p:nvPicPr>
        <p:blipFill>
          <a:blip r:embed="rId6"/>
          <a:stretch/>
        </p:blipFill>
        <p:spPr>
          <a:xfrm>
            <a:off x="3962520" y="5848200"/>
            <a:ext cx="228600" cy="228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6" name="Picture 10" descr=""/>
          <p:cNvPicPr/>
          <p:nvPr/>
        </p:nvPicPr>
        <p:blipFill>
          <a:blip r:embed="rId7"/>
          <a:stretch/>
        </p:blipFill>
        <p:spPr>
          <a:xfrm>
            <a:off x="4419720" y="6296040"/>
            <a:ext cx="237960" cy="2379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7" name="Picture 1" descr=""/>
          <p:cNvPicPr/>
          <p:nvPr/>
        </p:nvPicPr>
        <p:blipFill>
          <a:blip r:embed="rId8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0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20109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ing a Writing Assignment or Custom Assignment works similarly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1200" indent="-511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additional assistan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 the HELP tab for tutori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Customer Support at 800.419.3191 x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 a webinar found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tudyisland.com/webinars/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sp>
        <p:nvSpPr>
          <p:cNvPr id="411" name="Explosion 1 4"/>
          <p:cNvSpPr/>
          <p:nvPr/>
        </p:nvSpPr>
        <p:spPr>
          <a:xfrm>
            <a:off x="5334120" y="3352680"/>
            <a:ext cx="109836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xplosion 1 5"/>
          <p:cNvSpPr/>
          <p:nvPr/>
        </p:nvSpPr>
        <p:spPr>
          <a:xfrm>
            <a:off x="4800600" y="426708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562720" y="304920"/>
            <a:ext cx="2904840" cy="1752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14" name="Picture 7" descr="Steve Award.bmp"/>
          <p:cNvPicPr/>
          <p:nvPr/>
        </p:nvPicPr>
        <p:blipFill>
          <a:blip r:embed="rId4"/>
          <a:stretch/>
        </p:blipFill>
        <p:spPr>
          <a:xfrm>
            <a:off x="7391520" y="4114800"/>
            <a:ext cx="1079280" cy="10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Explosion 1 9"/>
          <p:cNvSpPr/>
          <p:nvPr/>
        </p:nvSpPr>
        <p:spPr>
          <a:xfrm rot="20462400">
            <a:off x="41400" y="1987200"/>
            <a:ext cx="109836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at is Study Island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15228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Island uses lessons, practice questions, and explanations to reinforce the concepts and skills taught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opics and lesson.png"/>
          <p:cNvPicPr/>
          <p:nvPr/>
        </p:nvPicPr>
        <p:blipFill>
          <a:blip r:embed="rId1"/>
          <a:stretch/>
        </p:blipFill>
        <p:spPr>
          <a:xfrm>
            <a:off x="1752480" y="3124080"/>
            <a:ext cx="5791320" cy="2962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04" name="TextBox 7"/>
          <p:cNvSpPr/>
          <p:nvPr/>
        </p:nvSpPr>
        <p:spPr>
          <a:xfrm>
            <a:off x="7621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9"/>
          <p:cNvCxnSpPr/>
          <p:nvPr/>
        </p:nvCxnSpPr>
        <p:spPr>
          <a:xfrm>
            <a:off x="1675440" y="3809880"/>
            <a:ext cx="61020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TextBox 10"/>
          <p:cNvSpPr/>
          <p:nvPr/>
        </p:nvSpPr>
        <p:spPr>
          <a:xfrm>
            <a:off x="754380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2"/>
          <p:cNvCxnSpPr/>
          <p:nvPr/>
        </p:nvCxnSpPr>
        <p:spPr>
          <a:xfrm flipH="1">
            <a:off x="7314840" y="3276720"/>
            <a:ext cx="45792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pull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7696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ANT! If this is your first time creating an assignment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you need to activate your class pag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43680" cy="23241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19" name="Oval 12"/>
          <p:cNvSpPr/>
          <p:nvPr/>
        </p:nvSpPr>
        <p:spPr>
          <a:xfrm>
            <a:off x="1066680" y="3943440"/>
            <a:ext cx="23623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0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52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our class page, students see your assignment when they log in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select your assignment or a Program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73040" indent="-18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3040" indent="-181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448480" cy="2590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3" name="Up Arrow 7"/>
          <p:cNvSpPr/>
          <p:nvPr/>
        </p:nvSpPr>
        <p:spPr>
          <a:xfrm rot="19065600">
            <a:off x="7892640" y="554940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0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5087 -0.06852 E">
                                      <p:cBhvr>
                                        <p:cTn id="141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87 -0.06852 L -0.775 -0.15556 E">
                                      <p:cBhvr>
                                        <p:cTn id="1421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5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School Stats 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 reports being “Automatically Emaile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Usernames and Pass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Difficulty Level (if allowed by Admi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hange Passing Go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strict Grad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able Text-to-Speec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repo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Oval 5"/>
          <p:cNvSpPr/>
          <p:nvPr/>
        </p:nvSpPr>
        <p:spPr>
          <a:xfrm>
            <a:off x="6824520" y="892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3048120" y="4448160"/>
            <a:ext cx="5895720" cy="2181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9" name="Up Arrow 13"/>
          <p:cNvSpPr/>
          <p:nvPr/>
        </p:nvSpPr>
        <p:spPr>
          <a:xfrm rot="19065600">
            <a:off x="4768560" y="15109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xplosion 1 8"/>
          <p:cNvSpPr/>
          <p:nvPr/>
        </p:nvSpPr>
        <p:spPr>
          <a:xfrm rot="613200">
            <a:off x="4129200" y="3889440"/>
            <a:ext cx="1098360" cy="4363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0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162 L 0.0658 0.44056 E">
                                      <p:cBhvr>
                                        <p:cTn id="1450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4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8 0.43594 L 0.19914 0.43594 E">
                                      <p:cBhvr>
                                        <p:cTn id="1464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8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5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4 0.43594 L 0.32414 0.43548 E">
                                      <p:cBhvr>
                                        <p:cTn id="147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14 0.43548 L 0.19914 0.71346 E">
                                      <p:cBhvr>
                                        <p:cTn id="1519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3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088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several reporting op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TI Repor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ss Gradebook Report” is popular. Sele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subject broken down by topi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clas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grade le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Repor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843360" y="860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4" name="Oval 6"/>
          <p:cNvSpPr/>
          <p:nvPr/>
        </p:nvSpPr>
        <p:spPr>
          <a:xfrm>
            <a:off x="3733920" y="838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5391360" cy="2343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6" name="Up Arrow 11"/>
          <p:cNvSpPr/>
          <p:nvPr/>
        </p:nvSpPr>
        <p:spPr>
          <a:xfrm rot="19065600">
            <a:off x="6978600" y="43304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247840" cy="1467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8" name="Explosion 1 8"/>
          <p:cNvSpPr/>
          <p:nvPr/>
        </p:nvSpPr>
        <p:spPr>
          <a:xfrm>
            <a:off x="609480" y="251460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nodeType="clickEffect" fill="hold">
                      <p:stCondLst>
                        <p:cond delay="0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5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8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185 L -1.38889E-006 0.04259 E">
                                      <p:cBhvr>
                                        <p:cTn id="1570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3935 L -1.38889E-006 0.08379 E">
                                      <p:cBhvr>
                                        <p:cTn id="158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7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6944 L -0.00087 0.11389 E">
                                      <p:cBhvr>
                                        <p:cTn id="159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0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9514 L -1.38889E-006 0.15069 E">
                                      <p:cBhvr>
                                        <p:cTn id="160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3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0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15185 L -0.0842 0.28333 E">
                                      <p:cBhvr>
                                        <p:cTn id="1622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6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52280" y="13712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n Exc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Email the repor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yone you specif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 right to see Ribbons Earned for each student or cla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 score to see the List of Sess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 student name to see the Individual Subject Repor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3843360" y="860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42" name="Oval 6"/>
          <p:cNvSpPr/>
          <p:nvPr/>
        </p:nvSpPr>
        <p:spPr>
          <a:xfrm>
            <a:off x="3733920" y="838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971720" cy="1781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4" name="Picture 5" descr=""/>
          <p:cNvPicPr/>
          <p:nvPr/>
        </p:nvPicPr>
        <p:blipFill>
          <a:blip r:embed="rId3"/>
          <a:stretch/>
        </p:blipFill>
        <p:spPr>
          <a:xfrm>
            <a:off x="533520" y="4019400"/>
            <a:ext cx="5105160" cy="2333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5" name="Picture 8" descr=""/>
          <p:cNvPicPr/>
          <p:nvPr/>
        </p:nvPicPr>
        <p:blipFill>
          <a:blip r:embed="rId4"/>
          <a:stretch/>
        </p:blipFill>
        <p:spPr>
          <a:xfrm>
            <a:off x="685800" y="6459480"/>
            <a:ext cx="7620120" cy="189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6" name="Picture 7" descr=""/>
          <p:cNvPicPr/>
          <p:nvPr/>
        </p:nvPicPr>
        <p:blipFill>
          <a:blip r:embed="rId5"/>
          <a:stretch/>
        </p:blipFill>
        <p:spPr>
          <a:xfrm>
            <a:off x="838080" y="6465960"/>
            <a:ext cx="1895760" cy="19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47" name="Oval 14"/>
          <p:cNvSpPr/>
          <p:nvPr/>
        </p:nvSpPr>
        <p:spPr>
          <a:xfrm>
            <a:off x="533520" y="401940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124080" y="4019400"/>
            <a:ext cx="20574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7521480" y="5181480"/>
            <a:ext cx="13716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428760" y="546732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8"/>
          <p:cNvSpPr/>
          <p:nvPr/>
        </p:nvSpPr>
        <p:spPr>
          <a:xfrm>
            <a:off x="3581280" y="5467320"/>
            <a:ext cx="533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0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2.59259E-006 L 0.59271 -0.00185 E">
                                      <p:cBhvr>
                                        <p:cTn id="1664" dur="3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6840" y="1934640"/>
            <a:ext cx="80010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a name to see the Individual Subject Re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looks like thi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see this report from their own accou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5338800" cy="3047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5965920" y="2409840"/>
            <a:ext cx="2895480" cy="13240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456" name="Straight Arrow Connector 7"/>
          <p:cNvCxnSpPr>
            <a:stCxn id="457" idx="2"/>
          </p:cNvCxnSpPr>
          <p:nvPr/>
        </p:nvCxnSpPr>
        <p:spPr>
          <a:xfrm flipH="1">
            <a:off x="4190760" y="3297600"/>
            <a:ext cx="1730880" cy="28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7" name="Oval 5"/>
          <p:cNvSpPr/>
          <p:nvPr/>
        </p:nvSpPr>
        <p:spPr>
          <a:xfrm>
            <a:off x="5921280" y="3222720"/>
            <a:ext cx="609840" cy="1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0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dividual Student Report can lead you to other reports: “Compare with others” and “Suggested Topic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1581120" cy="514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grpSp>
        <p:nvGrpSpPr>
          <p:cNvPr id="461" name="Group 9"/>
          <p:cNvGrpSpPr/>
          <p:nvPr/>
        </p:nvGrpSpPr>
        <p:grpSpPr>
          <a:xfrm>
            <a:off x="304920" y="3047040"/>
            <a:ext cx="4647960" cy="3129840"/>
            <a:chOff x="304920" y="3047040"/>
            <a:chExt cx="4647960" cy="3129840"/>
          </a:xfrm>
        </p:grpSpPr>
        <p:pic>
          <p:nvPicPr>
            <p:cNvPr id="462" name="Picture 8" descr=""/>
            <p:cNvPicPr/>
            <p:nvPr/>
          </p:nvPicPr>
          <p:blipFill>
            <a:blip r:embed="rId2"/>
            <a:stretch/>
          </p:blipFill>
          <p:spPr>
            <a:xfrm>
              <a:off x="304920" y="3505320"/>
              <a:ext cx="3562200" cy="267156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cxnSp>
          <p:nvCxnSpPr>
            <p:cNvPr id="463" name="Straight Arrow Connector 12"/>
            <p:cNvCxnSpPr/>
            <p:nvPr/>
          </p:nvCxnSpPr>
          <p:spPr>
            <a:xfrm flipH="1">
              <a:off x="3276360" y="3047040"/>
              <a:ext cx="167688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64" name="Group 11"/>
          <p:cNvGrpSpPr/>
          <p:nvPr/>
        </p:nvGrpSpPr>
        <p:grpSpPr>
          <a:xfrm>
            <a:off x="4114800" y="3352320"/>
            <a:ext cx="4572000" cy="2827800"/>
            <a:chOff x="4114800" y="3352320"/>
            <a:chExt cx="4572000" cy="2827800"/>
          </a:xfrm>
        </p:grpSpPr>
        <p:pic>
          <p:nvPicPr>
            <p:cNvPr id="465" name="Picture 9" descr=""/>
            <p:cNvPicPr/>
            <p:nvPr/>
          </p:nvPicPr>
          <p:blipFill>
            <a:blip r:embed="rId3"/>
            <a:stretch/>
          </p:blipFill>
          <p:spPr>
            <a:xfrm>
              <a:off x="4114800" y="4114800"/>
              <a:ext cx="4572000" cy="206532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cxnSp>
          <p:nvCxnSpPr>
            <p:cNvPr id="466" name="Straight Arrow Connector 13"/>
            <p:cNvCxnSpPr/>
            <p:nvPr/>
          </p:nvCxnSpPr>
          <p:spPr>
            <a:xfrm>
              <a:off x="5486400" y="3352320"/>
              <a:ext cx="381600" cy="7628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0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BigRibbon"/>
          <p:cNvPicPr/>
          <p:nvPr/>
        </p:nvPicPr>
        <p:blipFill>
          <a:blip r:embed="rId1"/>
          <a:stretch/>
        </p:blipFill>
        <p:spPr>
          <a:xfrm>
            <a:off x="228600" y="4722840"/>
            <a:ext cx="838080" cy="122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C:\Documents and Settings\Kimberly.Witty\Local Settings\Temporary Internet Files\Content.IE5\HSA1RDZM\MCj04114980000[1].wmf"/>
          <p:cNvPicPr/>
          <p:nvPr/>
        </p:nvPicPr>
        <p:blipFill>
          <a:blip r:embed="rId2"/>
          <a:stretch/>
        </p:blipFill>
        <p:spPr>
          <a:xfrm>
            <a:off x="7848720" y="2243160"/>
            <a:ext cx="1216080" cy="1414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tivating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70" name="Picture 3" descr="C:\Documents and Settings\Kimberly.Witty\Local Settings\Temporary Internet Files\Content.IE5\1TIC39MB\MPj04395580000[1].jpg"/>
          <p:cNvPicPr/>
          <p:nvPr/>
        </p:nvPicPr>
        <p:blipFill>
          <a:blip r:embed="rId3"/>
          <a:stretch/>
        </p:blipFill>
        <p:spPr>
          <a:xfrm rot="1519800">
            <a:off x="6737400" y="526680"/>
            <a:ext cx="1676520" cy="1238400"/>
          </a:xfrm>
          <a:prstGeom prst="rect">
            <a:avLst/>
          </a:prstGeom>
          <a:ln w="0">
            <a:noFill/>
          </a:ln>
        </p:spPr>
      </p:pic>
      <p:pic>
        <p:nvPicPr>
          <p:cNvPr id="471" name="homeGameImage" descr="gameHomeRun"/>
          <p:cNvPicPr/>
          <p:nvPr/>
        </p:nvPicPr>
        <p:blipFill>
          <a:blip r:embed="rId4"/>
          <a:stretch/>
        </p:blipFill>
        <p:spPr>
          <a:xfrm>
            <a:off x="205740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2" name="swatGameImage" descr="gameSwat"/>
          <p:cNvPicPr/>
          <p:nvPr/>
        </p:nvPicPr>
        <p:blipFill>
          <a:blip r:embed="rId5"/>
          <a:stretch/>
        </p:blipFill>
        <p:spPr>
          <a:xfrm>
            <a:off x="327672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"/>
          <p:cNvPicPr/>
          <p:nvPr/>
        </p:nvPicPr>
        <p:blipFill>
          <a:blip r:embed="rId6"/>
          <a:srcRect l="41666" t="34732" r="52201" b="57746"/>
          <a:stretch/>
        </p:blipFill>
        <p:spPr>
          <a:xfrm>
            <a:off x="448452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"/>
          <p:cNvPicPr/>
          <p:nvPr/>
        </p:nvPicPr>
        <p:blipFill>
          <a:blip r:embed="rId7"/>
          <a:srcRect l="41554" t="42838" r="52201" b="49932"/>
          <a:stretch/>
        </p:blipFill>
        <p:spPr>
          <a:xfrm>
            <a:off x="5638680" y="3798720"/>
            <a:ext cx="752760" cy="695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8"/>
          <a:srcRect l="13196" t="42694" r="80674" b="50076"/>
          <a:stretch/>
        </p:blipFill>
        <p:spPr>
          <a:xfrm>
            <a:off x="6858000" y="3786120"/>
            <a:ext cx="685800" cy="663480"/>
          </a:xfrm>
          <a:prstGeom prst="rect">
            <a:avLst/>
          </a:prstGeom>
          <a:ln w="0">
            <a:noFill/>
          </a:ln>
        </p:spPr>
      </p:pic>
      <p:pic>
        <p:nvPicPr>
          <p:cNvPr id="476" name="basketballGameImage" descr="gameBasketball"/>
          <p:cNvPicPr/>
          <p:nvPr/>
        </p:nvPicPr>
        <p:blipFill>
          <a:blip r:embed="rId9"/>
          <a:stretch/>
        </p:blipFill>
        <p:spPr>
          <a:xfrm>
            <a:off x="802008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" descr=""/>
          <p:cNvPicPr/>
          <p:nvPr/>
        </p:nvPicPr>
        <p:blipFill>
          <a:blip r:embed="rId10"/>
          <a:srcRect l="70142" t="34880" r="23728" b="58469"/>
          <a:stretch/>
        </p:blipFill>
        <p:spPr>
          <a:xfrm>
            <a:off x="819000" y="3809880"/>
            <a:ext cx="638280" cy="561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Study Island to help motivate stud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bulletin board to track student/class progr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students to reflect on what they’ve learn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tudy Island in Game Mode to introduce a les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intable Worksheets to create activities in 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certificates of achievement to stud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ent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Implementation@StudyIslan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more ideas to motivate stud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nodeType="clickEffect" fill="hold">
                      <p:stCondLst>
                        <p:cond delay="0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77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3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5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7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tivating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some of these idea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1" name="Picture 4" descr="SI 90% club certificate.png"/>
          <p:cNvPicPr/>
          <p:nvPr/>
        </p:nvPicPr>
        <p:blipFill>
          <a:blip r:embed="rId1"/>
          <a:stretch/>
        </p:blipFill>
        <p:spPr>
          <a:xfrm>
            <a:off x="5791320" y="1295280"/>
            <a:ext cx="3206520" cy="20955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2" name="Picture 6" descr="southedmonsonsurvivor.jpg"/>
          <p:cNvPicPr/>
          <p:nvPr/>
        </p:nvPicPr>
        <p:blipFill>
          <a:blip r:embed="rId2"/>
          <a:stretch/>
        </p:blipFill>
        <p:spPr>
          <a:xfrm>
            <a:off x="533520" y="1981080"/>
            <a:ext cx="3430440" cy="26085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3" name="Picture 3" descr="KreitnerES. IL. caterpillar bulletin board1.jpg"/>
          <p:cNvPicPr/>
          <p:nvPr/>
        </p:nvPicPr>
        <p:blipFill>
          <a:blip r:embed="rId3"/>
          <a:stretch/>
        </p:blipFill>
        <p:spPr>
          <a:xfrm>
            <a:off x="4952880" y="3200400"/>
            <a:ext cx="3654720" cy="2444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4" name="Picture 5" descr="SI achievement certificate.PNG"/>
          <p:cNvPicPr/>
          <p:nvPr/>
        </p:nvPicPr>
        <p:blipFill>
          <a:blip r:embed="rId4"/>
          <a:stretch/>
        </p:blipFill>
        <p:spPr>
          <a:xfrm>
            <a:off x="1447920" y="4114800"/>
            <a:ext cx="3767040" cy="2460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0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1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f I forget all of thi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eck out the HELP tab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 Tutorials, download Documents, and find year-round implementation ide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1990800" cy="209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88" name="Oval 10"/>
          <p:cNvSpPr/>
          <p:nvPr/>
        </p:nvSpPr>
        <p:spPr>
          <a:xfrm>
            <a:off x="6324480" y="2057400"/>
            <a:ext cx="6098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8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4505400" cy="3095640"/>
          </a:xfrm>
          <a:prstGeom prst="rect">
            <a:avLst/>
          </a:prstGeom>
          <a:ln w="0">
            <a:noFill/>
          </a:ln>
        </p:spPr>
      </p:pic>
      <p:sp>
        <p:nvSpPr>
          <p:cNvPr id="490" name="Up Arrow 9"/>
          <p:cNvSpPr/>
          <p:nvPr/>
        </p:nvSpPr>
        <p:spPr>
          <a:xfrm rot="19065600">
            <a:off x="3701880" y="4711680"/>
            <a:ext cx="384480" cy="50976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25532E-006 L 0.2658 -0.00185 E">
                                      <p:cBhvr>
                                        <p:cTn id="195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8 -0.00185 L 0.2658 0.23127 E">
                                      <p:cBhvr>
                                        <p:cTn id="1954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-base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ccess Study Island ANYWHERE from the internet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 Time Repor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utomatic grading for instantaneous feedback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iagnostic reports to better differentiate instruction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 Cen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 with students and teachers easi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Explosion 1 4"/>
          <p:cNvSpPr/>
          <p:nvPr/>
        </p:nvSpPr>
        <p:spPr>
          <a:xfrm rot="550800">
            <a:off x="6221160" y="4566960"/>
            <a:ext cx="2873160" cy="8398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Recently Enhanc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xplosion 1 5"/>
          <p:cNvSpPr/>
          <p:nvPr/>
        </p:nvSpPr>
        <p:spPr>
          <a:xfrm rot="520200">
            <a:off x="6541920" y="2916000"/>
            <a:ext cx="2384640" cy="10461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ew Addi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f I forget all of thi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udy Island Support is here to help!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8077320" y="5562720"/>
            <a:ext cx="904680" cy="10922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"/>
          <p:cNvSpPr/>
          <p:nvPr/>
        </p:nvSpPr>
        <p:spPr>
          <a:xfrm>
            <a:off x="2971800" y="2971800"/>
            <a:ext cx="3505320" cy="143460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800.419.3191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1219320" y="4648320"/>
            <a:ext cx="6858000" cy="143460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upport@StudyIsland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6" descr="Steve Award.bmp"/>
          <p:cNvPicPr/>
          <p:nvPr/>
        </p:nvPicPr>
        <p:blipFill>
          <a:blip r:embed="rId2"/>
          <a:stretch/>
        </p:blipFill>
        <p:spPr>
          <a:xfrm>
            <a:off x="666720" y="2666880"/>
            <a:ext cx="18478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nodeType="clickEffect" fill="hold">
                      <p:stCondLst>
                        <p:cond delay="0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In 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75248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g in at </a:t>
            </a:r>
            <a:r>
              <a:rPr b="0" lang="en-US" sz="2600" spc="-1" strike="noStrike" u="sng">
                <a:solidFill>
                  <a:srgbClr val="237dc7"/>
                </a:solidFill>
                <a:uFillTx/>
                <a:latin typeface="Calibri"/>
              </a:rPr>
              <a:t>www.StudyIslan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your Study Island progra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classes in Class Manag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School Sta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ember: Study Island is here to help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6" descr="C:\Documents and Settings\kimberly.witty\Local Settings\Temporary Internet Files\Content.IE5\VOEEGF6P\MCj04417060000[1].png"/>
          <p:cNvPicPr/>
          <p:nvPr/>
        </p:nvPicPr>
        <p:blipFill>
          <a:blip r:embed="rId1"/>
          <a:stretch/>
        </p:blipFill>
        <p:spPr>
          <a:xfrm>
            <a:off x="6095880" y="838080"/>
            <a:ext cx="2743200" cy="4038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C:\Documents and Settings\kimberly.witty\Local Settings\Temporary Internet Files\Content.IE5\AJH1U3KC\MCj04381310000[1].wmf"/>
          <p:cNvPicPr/>
          <p:nvPr/>
        </p:nvPicPr>
        <p:blipFill>
          <a:blip r:embed="rId2"/>
          <a:stretch/>
        </p:blipFill>
        <p:spPr>
          <a:xfrm>
            <a:off x="8001000" y="3581280"/>
            <a:ext cx="873000" cy="8146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1066680" y="4876920"/>
            <a:ext cx="6324840" cy="1134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00.419.3191 x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Support@StudyIsland.com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Steve Award.bmp"/>
          <p:cNvPicPr/>
          <p:nvPr/>
        </p:nvPicPr>
        <p:blipFill>
          <a:blip r:embed="rId4"/>
          <a:stretch/>
        </p:blipFill>
        <p:spPr>
          <a:xfrm>
            <a:off x="1371600" y="4343400"/>
            <a:ext cx="1068480" cy="10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nodeType="clickEffect" fill="hold">
                      <p:stCondLst>
                        <p:cond delay="0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83071E-006 C 7.77778E-006 -2.83071E-006 -0.01041 -0.05365 -0.02083 -0.10731 E">
                                      <p:cBhvr>
                                        <p:cTn id="199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nodeType="clickEffect" fill="hold">
                      <p:stCondLst>
                        <p:cond delay="indefinite"/>
                      </p:stCondLst>
                      <p:childTnLst>
                        <p:par>
                          <p:cTn id="1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10731 C -0.02083 -0.10731 -0.03576 -0.15611 -0.05069 -0.20468 E">
                                      <p:cBhvr>
                                        <p:cTn id="1999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9 -0.20467 C -0.05069 -0.20467 -0.06492 -0.25046 -0.07899 -0.29625 E">
                                      <p:cBhvr>
                                        <p:cTn id="2007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99 -0.29626 C -0.07899 -0.29626 -0.10139 -0.33811 -0.12378 -0.37974 E">
                                      <p:cBhvr>
                                        <p:cTn id="201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0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599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87120" indent="-8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Manag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04480" indent="-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7854840" y="5410080"/>
            <a:ext cx="1136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Explosion 1 7"/>
          <p:cNvSpPr/>
          <p:nvPr/>
        </p:nvSpPr>
        <p:spPr>
          <a:xfrm rot="460200">
            <a:off x="6662880" y="4605480"/>
            <a:ext cx="167616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xplosion 1 9"/>
          <p:cNvSpPr/>
          <p:nvPr/>
        </p:nvSpPr>
        <p:spPr>
          <a:xfrm rot="732000">
            <a:off x="5227200" y="3674880"/>
            <a:ext cx="167652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xplosion 1 10"/>
          <p:cNvSpPr/>
          <p:nvPr/>
        </p:nvSpPr>
        <p:spPr>
          <a:xfrm rot="672600">
            <a:off x="6824520" y="2900520"/>
            <a:ext cx="167652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144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classes to make viewing reports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914400" y="3657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dule Parent Not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914400" y="2895480"/>
            <a:ext cx="5943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students in real-time with Live Vi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990720" y="4343400"/>
            <a:ext cx="5943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 Study Island topics, writing promp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ustom assessmen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6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6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670536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stom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your own topics in Study Islan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ward Winning Study Island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l 800.419.3191 x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pport@studyislan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t with a live associa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Steve Award.bmp"/>
          <p:cNvPicPr/>
          <p:nvPr/>
        </p:nvPicPr>
        <p:blipFill>
          <a:blip r:embed="rId2"/>
          <a:stretch/>
        </p:blipFill>
        <p:spPr>
          <a:xfrm>
            <a:off x="5943600" y="2666880"/>
            <a:ext cx="1562040" cy="14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1219320" y="4952880"/>
            <a:ext cx="1925640" cy="685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"/>
          <p:cNvPicPr/>
          <p:nvPr/>
        </p:nvPicPr>
        <p:blipFill>
          <a:blip r:embed="rId4"/>
          <a:stretch/>
        </p:blipFill>
        <p:spPr>
          <a:xfrm>
            <a:off x="7543800" y="5035680"/>
            <a:ext cx="144792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ere do I start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3520" y="17521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77040" indent="-7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Go to </a:t>
            </a:r>
            <a:r>
              <a:rPr b="0" lang="en-US" sz="2400" spc="-1" strike="noStrike" u="sng">
                <a:solidFill>
                  <a:srgbClr val="237dc7"/>
                </a:solidFill>
                <a:uFillTx/>
                <a:latin typeface="Calibri"/>
              </a:rPr>
              <a:t>www.studyislan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7040" indent="-7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7040" indent="-77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422360" cy="1981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2590560" cy="2014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31" name="TextBox 6"/>
          <p:cNvSpPr/>
          <p:nvPr/>
        </p:nvSpPr>
        <p:spPr>
          <a:xfrm>
            <a:off x="533520" y="46483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 your Username and Pass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question_mark.gif"/>
          <p:cNvPicPr/>
          <p:nvPr/>
        </p:nvPicPr>
        <p:blipFill>
          <a:blip r:embed="rId3"/>
          <a:stretch/>
        </p:blipFill>
        <p:spPr>
          <a:xfrm rot="1278600">
            <a:off x="5641920" y="1033560"/>
            <a:ext cx="188280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1752120"/>
            <a:ext cx="30477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 class in Class Mange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hedule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From your Teacher Page you can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815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Up Arrow 15"/>
          <p:cNvSpPr/>
          <p:nvPr/>
        </p:nvSpPr>
        <p:spPr>
          <a:xfrm rot="19065600">
            <a:off x="5073120" y="2502000"/>
            <a:ext cx="384480" cy="509400"/>
          </a:xfrm>
          <a:prstGeom prst="up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752120"/>
            <a:ext cx="304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 a snapshot of favorite reports from School Sta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ess Teacher Lounge tool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 Study Island announceme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From your Teacher Page you can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815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4267080" y="4834080"/>
            <a:ext cx="2286000" cy="12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6640560" y="4824360"/>
            <a:ext cx="2286000" cy="1244520"/>
          </a:xfrm>
          <a:prstGeom prst="rect">
            <a:avLst/>
          </a:prstGeom>
          <a:ln w="0">
            <a:noFill/>
          </a:ln>
        </p:spPr>
      </p:pic>
      <p:sp>
        <p:nvSpPr>
          <p:cNvPr id="242" name="Up Arrow 10"/>
          <p:cNvSpPr/>
          <p:nvPr/>
        </p:nvSpPr>
        <p:spPr>
          <a:xfrm rot="19065600">
            <a:off x="7435800" y="25016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008E-007 L -0.00087 0.15356 E">
                                      <p:cBhvr>
                                        <p:cTn id="28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587 0.38668 L -0.00087 0.15356 E">
                                      <p:cBhvr>
                                        <p:cTn id="29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587 0.38668 L 0.02413 0.38668 E">
                                      <p:cBhvr>
                                        <p:cTn id="29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29:03Z</dcterms:created>
  <dc:creator>elissa.nadel</dc:creator>
  <dc:description/>
  <dc:language>en-US</dc:language>
  <cp:lastModifiedBy>Laura J. Lopez</cp:lastModifiedBy>
  <dcterms:modified xsi:type="dcterms:W3CDTF">2011-05-19T18:48:02Z</dcterms:modified>
  <cp:revision>433</cp:revision>
  <dc:subject/>
  <dc:title>Slide 1</dc:title>
</cp:coreProperties>
</file>